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D592-3EB2-47C5-A830-236C0089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4E2D-73EE-4CBE-9C18-132C63C1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83F3-B920-41B5-9783-6E2E5F2A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1273-EDEC-484F-B8B0-6CC39B98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B3BE-B0A8-4074-9A68-196169A1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3526-C5C8-417A-9111-EFECDC26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9935-2DC3-41A7-84E4-1603103F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2718-B2B0-489B-BF56-B2C5CC1F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F1F3-0C6F-4BF8-9752-0295FBCF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CF12-7BAA-4170-85C9-4D9DF50B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99DC-D132-4515-A0CC-9E976F40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3695-D881-4E2A-A3EE-85BA448D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9F93-99A8-42BB-A3EA-6549596D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8C3E-3F5E-451C-B22F-B012CF51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BFDB-6D63-483B-857C-9A97C0F2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C705-192B-4A59-B22D-045E8DAF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5C85-AF84-4768-89F2-984CD4B67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DEEB-6F51-4EEE-8BC1-5B7C08DA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69D6-548A-455C-B93D-2194515B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6DB9-A539-4008-A82B-139E4045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FE47-BCEC-4BF5-A2E1-D014F88A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7C20-92F2-49A7-8001-D6481742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A6B5-108C-43A9-B456-351F8AAA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293D-2ED9-460A-AB7A-A31C9A8F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7218-CC39-40E7-81C1-DBBA91FA30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B123-5DC2-4110-8400-3CF6C812CD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ampage?collId=llsl&amp;fileName=014/llsl014.db&amp;recNum=389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The law of slavery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13</a:t>
            </a:r>
            <a:r>
              <a:rPr b="1" lang="en-US" sz="4400" spc="-1" strike="noStrike" baseline="30000">
                <a:solidFill>
                  <a:srgbClr val="ffffb7"/>
                </a:solidFill>
                <a:latin typeface="Arial Black"/>
              </a:rPr>
              <a:t>th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amendmen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ed by Congress on January 31, 1865, and ratified on December 6, 1865, the 13th amendment abolished slavery in the United States and provides that "Neither slavery nor involuntary servit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except as a punishment for crime whereof the party shall have been duly convicted, shall exist within the United States, or any place subject to their jurisdiction.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13</a:t>
            </a:r>
            <a:r>
              <a:rPr b="1" lang="en-US" sz="4400" spc="-1" strike="noStrike" baseline="30000">
                <a:solidFill>
                  <a:srgbClr val="ffffb7"/>
                </a:solidFill>
                <a:latin typeface="Arial Black"/>
              </a:rPr>
              <a:t>th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amendmen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13th amendment, which formally abolished slavery in the United States, passed the Senate on April 8, 1864, and the House on January 31, 186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February 1, 1865, President Abraham Lincoln approved the Joint Resolution of Congress submitting the proposed amendment to the state legislatur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14</a:t>
            </a:r>
            <a:r>
              <a:rPr b="1" lang="en-US" sz="4400" spc="-1" strike="noStrike" baseline="30000">
                <a:solidFill>
                  <a:srgbClr val="ffffb7"/>
                </a:solidFill>
                <a:latin typeface="Arial Black"/>
              </a:rPr>
              <a:t>th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amendmen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The 14th Amendment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 to the Constitution was ratified on July 9, 1868, and granted citizenship to “all persons born or naturalized in the United States,” which included former slaves recently freed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 addition, it forbids states from denying any person "life, liberty or property, without due process of law" or to "deny to any person within its jurisdiction the equal protection of the laws.”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y directly mentioning the role of the states, the 14th Amendment greatly expanded the protection of civil rights to all Americans and is cited in more litigation than any other amendment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8:51:20Z</dcterms:created>
  <dc:creator>teacher</dc:creator>
  <dc:description/>
  <dc:language>en-US</dc:language>
  <cp:lastModifiedBy>teacher</cp:lastModifiedBy>
  <dcterms:modified xsi:type="dcterms:W3CDTF">2010-01-14T18:27:09Z</dcterms:modified>
  <cp:revision>3</cp:revision>
  <dc:subject/>
  <dc:title> The law of slavery.</dc:title>
</cp:coreProperties>
</file>